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A57-18AA-48A7-8732-7A6F34C0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C3C-27E4-4849-A09C-73F73A55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89B-338C-472B-8AF6-DF42D917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98A-DE38-4132-872E-BFA66ECE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F156-6937-4057-A4C4-8C3FFB0C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3FC7-09D8-4A6B-B63A-B7282465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1370-49DC-468A-B8DF-8C76B2AA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B82B-0224-4E41-87A4-36FEFDB2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8517-CE59-4A88-BCB6-42CC8244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4FF8-FA8B-4679-AB50-D8B461DE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7633-2B04-41D6-94A4-D5371B8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2228-0FC0-44AE-8EB4-62AF1ED4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B6A3-B7D4-4BF0-AC30-EE8FE152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A541-7EDE-4DFA-B21B-4CC5B27F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6C05-FB9D-44A1-9BD8-1FDD15CC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79EE-4FDB-481F-B5A4-B4DFBE43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1411-8F85-457E-81D5-9CF0BF04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8E78-C5DC-4945-85C2-AADB4F57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A4B-3002-4A05-BC20-B6209AEF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B1EB-AA65-4DAD-BE64-9D32B35A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CF3-9B5D-4FA4-A543-BCB8915D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DA4-8199-477D-AAC3-F9FF7D93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ED6-94DE-4666-84E6-19023239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BEE-0D42-4796-842F-C257E3D1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38F9-5A4C-4F97-8A32-CD8130DA3EDD}" type="datetime">
              <a:rPr b="0" lang="hu-HU" sz="1000" spc="-1" strike="noStrike">
                <a:solidFill>
                  <a:srgbClr val="000000"/>
                </a:solidFill>
                <a:latin typeface="Tahoma"/>
              </a:rPr>
              <a:t>26.07.28.</a:t>
            </a:fld>
            <a:r>
              <a:rPr b="0" lang="hu-HU" sz="1000" spc="-1" strike="noStrike">
                <a:solidFill>
                  <a:srgbClr val="000000"/>
                </a:solidFill>
                <a:latin typeface="Tahoma"/>
              </a:rPr>
              <a:t>DR SZALAI ERZSÉBET 2012.IX.1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hu-HU" sz="1000" spc="-1" strike="noStrike">
                <a:solidFill>
                  <a:srgbClr val="000000"/>
                </a:solidFill>
                <a:latin typeface="Tahoma"/>
              </a:rPr>
              <a:t>DR SZALAI ERZSÉBET  2015.IV.21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5246-CA7E-42FF-AB54-646F33DDA14C}" type="slidenum">
              <a:rPr b="0" lang="hu-H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3A62-1D3A-4A27-AAB1-57B5CB920E10}" type="datetime">
              <a:rPr b="0" lang="hu-HU" sz="1000" spc="-1" strike="noStrike">
                <a:solidFill>
                  <a:srgbClr val="ffffff"/>
                </a:solidFill>
                <a:latin typeface="Tahoma"/>
              </a:rPr>
              <a:t>26.07.28.</a:t>
            </a:fld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12.IX.1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 2015.IV.21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377C-83A6-4793-A04D-C6A7599E954D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FOGYASZTÓVÉDELEM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74B1-F485-4189-BCD0-C36A88FED5E3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4" descr="MC900343917[1]"/>
          <p:cNvPicPr/>
          <p:nvPr/>
        </p:nvPicPr>
        <p:blipFill>
          <a:blip r:embed="rId1"/>
          <a:stretch/>
        </p:blipFill>
        <p:spPr>
          <a:xfrm>
            <a:off x="3780000" y="3573360"/>
            <a:ext cx="175248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Verdana"/>
              </a:rPr>
              <a:t>DR SZALAI ERZSÉBET 2020. áprili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öbb eladási ár vagy szolgáltatási díj egyidejű feltüntetése esetén mit kell fizetn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egalacsonyabba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52E4-D8D8-48F5-8E2C-3772C910D269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508720" y="3716280"/>
            <a:ext cx="1727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SOMAGOLÁS </a:t>
            </a:r>
            <a:r>
              <a:rPr b="0" lang="en-US" sz="1000" spc="-1" strike="noStrike">
                <a:solidFill>
                  <a:srgbClr val="eaeaea"/>
                </a:solidFill>
                <a:latin typeface="Tahoma"/>
              </a:rPr>
              <a:t>15. § </a:t>
            </a:r>
            <a:endParaRPr b="1" lang="en-US" sz="1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óvja meg a termék minőségé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önnyítse meg szállításá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 befolyásolja hátrányosan a termék minőségét vagy mennyiségé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91C1-6FBA-4545-B7F7-5E69225792D9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1851120" cy="176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348000" y="4797360"/>
            <a:ext cx="1511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 gyermek- és fiatalkorúak védelmét szolgáló különös rendelkezések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18.-AT MÉG NEM TÖLTÖTTE B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71FC-B310-47BD-B849-E34FEB072E79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945480" y="1374840"/>
            <a:ext cx="14508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ILOS értékesíteni, kiszolgáln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zárólag orvosi rendelvényre kiadható gyógyszer kivételével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zexuális termék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é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GAZOLÁS NINCS?  meg kell tagadn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0" descr="Részletek"/>
          <p:cNvPicPr/>
          <p:nvPr/>
        </p:nvPicPr>
        <p:blipFill>
          <a:blip r:embed="rId1"/>
          <a:stretch/>
        </p:blipFill>
        <p:spPr>
          <a:xfrm>
            <a:off x="6372360" y="2708280"/>
            <a:ext cx="1108080" cy="1152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Részletek"/>
          <p:cNvPicPr/>
          <p:nvPr/>
        </p:nvPicPr>
        <p:blipFill>
          <a:blip r:embed="rId2"/>
          <a:stretch/>
        </p:blipFill>
        <p:spPr>
          <a:xfrm>
            <a:off x="2627280" y="3860640"/>
            <a:ext cx="11890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 2020. áprili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Tahoma"/>
              </a:rPr>
              <a:t>Játékszoftve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forgalmazása esetén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, amely </a:t>
            </a:r>
            <a:r>
              <a:rPr b="1" lang="hu-HU" sz="2000" spc="-1" strike="noStrike" u="sng">
                <a:solidFill>
                  <a:srgbClr val="ffffff"/>
                </a:solidFill>
                <a:uFillTx/>
                <a:latin typeface="Tahoma"/>
              </a:rPr>
              <a:t>alkalmas a </a:t>
            </a:r>
            <a:r>
              <a:rPr b="1" lang="hu-HU" sz="2000" spc="-1" strike="noStrike" u="sng">
                <a:solidFill>
                  <a:srgbClr val="ff3300"/>
                </a:solidFill>
                <a:uFillTx/>
                <a:latin typeface="Tahoma"/>
              </a:rPr>
              <a:t>18.év alattiak</a:t>
            </a:r>
            <a:r>
              <a:rPr b="1" lang="hu-HU" sz="2000" spc="-1" strike="noStrike" u="sng">
                <a:solidFill>
                  <a:srgbClr val="ffffff"/>
                </a:solidFill>
                <a:uFillTx/>
                <a:latin typeface="Tahoma"/>
              </a:rPr>
              <a:t>  fizikai, szellemi, lelki vagy erkölcsi fejlődésének kedvezőtlen befolyásolására, 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különösen azáltal, hogy meghatározó eleme az erőszak, illetve a szexualitás közvetlen, naturális ábrázolása, köteles a </a:t>
            </a:r>
            <a:r>
              <a:rPr b="1" lang="hu-HU" sz="2000" spc="-1" strike="noStrike">
                <a:solidFill>
                  <a:srgbClr val="ffcc00"/>
                </a:solidFill>
                <a:latin typeface="Tahoma"/>
              </a:rPr>
              <a:t>18 éven aluliak számára nem ajánlott!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u-HU" sz="2000" spc="-1" strike="noStrike" u="sng">
                <a:solidFill>
                  <a:srgbClr val="ffffff"/>
                </a:solidFill>
                <a:uFillTx/>
                <a:latin typeface="Tahoma"/>
              </a:rPr>
              <a:t>szöveget</a:t>
            </a:r>
            <a:r>
              <a:rPr b="1" lang="hu-HU" sz="2000" spc="-1" strike="noStrike">
                <a:solidFill>
                  <a:srgbClr val="ffffff"/>
                </a:solidFill>
                <a:latin typeface="Tahoma"/>
              </a:rPr>
              <a:t> a játékszoftver csomagolásán jól észlelhető módon feltüntetni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16527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Fogyasztói csoport szervezésének tilalma </a:t>
            </a:r>
            <a:r>
              <a:rPr b="0" lang="hu-HU" sz="1600" spc="-1" strike="noStrike">
                <a:solidFill>
                  <a:srgbClr val="eaeaea"/>
                </a:solidFill>
                <a:latin typeface="Tahoma"/>
              </a:rPr>
              <a:t>16/B. §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Tilos fogyasztói csoportot létrehozn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megkerülésével kötött szerződés semm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Tilos fogyasztói csoportba fogyasztókat nyilvános felhívás útján gyűjteni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MP900422122[1]"/>
          <p:cNvPicPr/>
          <p:nvPr/>
        </p:nvPicPr>
        <p:blipFill>
          <a:blip r:embed="rId1"/>
          <a:stretch/>
        </p:blipFill>
        <p:spPr>
          <a:xfrm>
            <a:off x="5219640" y="5084640"/>
            <a:ext cx="21607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OGYASZTÓI CSOPOR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szervezők - díjazás ellenében történő - közreműködésével a csoport tagjai pénzének összegyűjtésén alapuló minden olyan csoport, amelynek </a:t>
            </a:r>
            <a:r>
              <a:rPr b="0" lang="hu-HU" sz="2400" spc="-1" strike="noStrike">
                <a:solidFill>
                  <a:srgbClr val="ffc000"/>
                </a:solidFill>
                <a:latin typeface="Tahoma"/>
              </a:rPr>
              <a:t>célja,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hogy </a:t>
            </a:r>
            <a:r>
              <a:rPr b="0" lang="hu-HU" sz="2400" spc="-1" strike="noStrike" u="sng">
                <a:solidFill>
                  <a:srgbClr val="ff3300"/>
                </a:solidFill>
                <a:uFillTx/>
                <a:latin typeface="Tahoma"/>
              </a:rPr>
              <a:t>minden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3300"/>
                </a:solidFill>
                <a:uFillTx/>
                <a:latin typeface="Tahoma"/>
              </a:rPr>
              <a:t>tagja az általa előre meghatározott dolog tulajdonjogát a tagok befizetéseiből, előre meghatározott időtartamon belül</a:t>
            </a:r>
            <a:r>
              <a:rPr b="0" lang="hu-HU" sz="2400" spc="-1" strike="noStrike">
                <a:solidFill>
                  <a:srgbClr val="ff3300"/>
                </a:solidFill>
                <a:latin typeface="Tahoma"/>
              </a:rPr>
              <a:t> -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Tahoma"/>
              </a:rPr>
              <a:t>véletlenszerű vagy többletfeltételek vállalásától függő kiválasztás útján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- a </a:t>
            </a:r>
            <a:r>
              <a:rPr b="0" lang="hu-HU" sz="2400" spc="-1" strike="noStrike" u="sng">
                <a:solidFill>
                  <a:srgbClr val="ff3300"/>
                </a:solidFill>
                <a:uFillTx/>
                <a:latin typeface="Tahoma"/>
              </a:rPr>
              <a:t>csoport segítségével megszerez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D176-B07A-4B46-9C1F-10669BE6C235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cc00"/>
                </a:solidFill>
                <a:latin typeface="Tahoma"/>
              </a:rPr>
              <a:t>A fogyasztók oktatása</a:t>
            </a: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hu-HU" sz="1600" spc="-1" strike="noStrike">
                <a:solidFill>
                  <a:srgbClr val="eaeaea"/>
                </a:solidFill>
                <a:latin typeface="Tahoma"/>
              </a:rPr>
              <a:t>17. §</a:t>
            </a:r>
            <a:r>
              <a:rPr b="1" lang="hu-H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iskolai és iskolán kívüli oktatás keretében meg kell ismertetni az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igényei érvényesítéséhez szükséges jogszabályokat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oktatás elsősorban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állami feladat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z iskolai fogyasztóvédelmi oktatás a </a:t>
            </a:r>
            <a:r>
              <a:rPr b="1" lang="hu-HU" sz="2800" spc="-1" strike="noStrike">
                <a:solidFill>
                  <a:srgbClr val="ffffff"/>
                </a:solidFill>
                <a:latin typeface="Tahoma"/>
              </a:rPr>
              <a:t>Nemzeti Alaptanterv részét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képez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42560" y="69192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fogyasztói jogvita………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belföldi fogyasztói jogvita…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atáron átnyúló fogyasztói jogvita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ahoma"/>
              </a:rPr>
              <a:t>Panaszkezelés, ügyfélszolgálat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állalkozás köteles a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fogyasztót tájékoztatn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 székhelyéről, a panaszügyintézés helyéről módjáról, ügyfélszolgálatának levelezési címéről (elektronikus levelezési címéről illetve internetes címéről) telefonszámáró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békéltető testülethez való fordulásró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</a:rPr>
              <a:t>Üzlet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jól láthatóan és olvashatóan kell megadn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8" descr="MC900282274[1]"/>
          <p:cNvPicPr/>
          <p:nvPr/>
        </p:nvPicPr>
        <p:blipFill>
          <a:blip r:embed="rId1"/>
          <a:stretch/>
        </p:blipFill>
        <p:spPr>
          <a:xfrm>
            <a:off x="7380360" y="476280"/>
            <a:ext cx="1152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tály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 2008. évi XLVII. törvé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fogyasztókkal szembeni tisztességtelen kereskedelmi gyakorlat tilalmáró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1997. évi CLV. törvé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fogyasztóvédelemrő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Tahoma"/>
              </a:rPr>
              <a:t>A fogyasztó kérésé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0 napon belül díjmente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ztosítani kell a vállalkozás ügyfélszolgálatán a hangfelvétel meghallgatásá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angfelvétel/ 1  alkalommal a hangfelvételről másolatot kell biztosítan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anasz elutasítása eseté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vállalkozás miről köteles a fogyasztót írásban tájékoztatni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2020. áprili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Békéltető testület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18.§</a:t>
            </a:r>
            <a:br>
              <a:rPr sz="1800"/>
            </a:b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táskö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gyasztói jogvita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írósági eljáráson kívüli rendezése, egyezség létrehozása a felek között. Eredménytelenség esetén döntést hoz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L MŰKÖDIK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JÁRÁSA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6537-B8AD-46FF-9581-3714944F85E9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fogyasztóvédelmi hatóság ellenőrzi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42560" y="1557000"/>
            <a:ext cx="756756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áru fogyasztók számára való értékesítésér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galmazott termék minőségére, összetételére, csomagolásár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áru mérésére, hatósági árára vagy egyébként kötelezően megállapított árár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naszkezelésre, ügyfélszolgálatr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gyasztói szerződés keretében érvényesített szavatossági és jótállási igények intézésér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gyenlő bánásmód követelményér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gyasztók tájékoztatásá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ahoma"/>
              </a:rPr>
              <a:t>vonatkozó rendelkezések betartását, és eljár azok megsértése eseté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A27D-5294-4F72-BBDD-C00A4C138DF6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gyasztóvédelmi hatóság eljárása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jogsértés bekövetkezését követő 3 éven túl nem indítható meg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Ha a jogsértő magatartás folyamatos, a határidő a magatartás abbahagyásakor kezdődik.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/46.§(3)/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FOGYASZTÓVÉDELMI HATÓSÁG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ermék vagy szolgáltatás tekintetében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</a:rPr>
              <a:t>próbavásárlást végezhet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díjazás mellett közreműködőt is igénybe vehet megbízólevéllel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lenőrzési jogosultság: a próbavásárlás befejezésekor igazolj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4F5C-3F0C-4C14-8975-21DBDD5440E4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4" descr="MC900196570[1]"/>
          <p:cNvPicPr/>
          <p:nvPr/>
        </p:nvPicPr>
        <p:blipFill>
          <a:blip r:embed="rId1"/>
          <a:stretch/>
        </p:blipFill>
        <p:spPr>
          <a:xfrm>
            <a:off x="7236000" y="1413000"/>
            <a:ext cx="1609560" cy="1811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6732720" y="4149720"/>
            <a:ext cx="2016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ERMÉK VÁSÁRLÁSA TÖRTÉNT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vállalkozás képviseletében eljáró személy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ermék visszavéte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ellett köteles annak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árát visszatéríten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ZOLGÁLTATÁS ELLENŐRZÉS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HATÓSÁGI JOGKÖVETKEZMÉNYEK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3645000"/>
            <a:ext cx="7543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 fogyasztók védelme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(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TERMÉK VISSZAHÍVÁSOK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</a:t>
            </a:r>
            <a:r>
              <a:rPr b="0" lang="hu-HU" sz="900" spc="-1" strike="noStrike">
                <a:solidFill>
                  <a:srgbClr val="ffffff"/>
                </a:solidFill>
                <a:latin typeface="Tahoma"/>
              </a:rPr>
              <a:t>ERZSÉBET 2020.  áprili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1.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cc00"/>
                </a:solidFill>
                <a:latin typeface="Tahoma"/>
              </a:rPr>
              <a:t>1997. évi CLV. törvé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hu-HU" sz="3200" spc="-1" strike="noStrike">
                <a:solidFill>
                  <a:srgbClr val="ffcc00"/>
                </a:solidFill>
                <a:latin typeface="Tahoma"/>
              </a:rPr>
              <a:t>a fogyasztóvédelemrő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C8E5-0FC1-4F5C-B615-5BD646D39DF3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0" name="Picture 8" descr="Nő bevásárlótáskákkal"/>
          <p:cNvPicPr/>
          <p:nvPr/>
        </p:nvPicPr>
        <p:blipFill>
          <a:blip r:embed="rId1"/>
          <a:stretch/>
        </p:blipFill>
        <p:spPr>
          <a:xfrm>
            <a:off x="4932360" y="3933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2.)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Tahoma"/>
              </a:rPr>
              <a:t>2008. évi XLVII. törvé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Tahoma"/>
              </a:rPr>
              <a:t>a fogyasztókkal szembeni tisztességtelen kereskedelmi gyakorlat tilalmáró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E7A3-8A49-4E68-A674-053539C08F9F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Picture 8" descr="Nő bevásárlótáskákkal"/>
          <p:cNvPicPr/>
          <p:nvPr/>
        </p:nvPicPr>
        <p:blipFill>
          <a:blip r:embed="rId1"/>
          <a:stretch/>
        </p:blipFill>
        <p:spPr>
          <a:xfrm>
            <a:off x="6227640" y="4221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tisztességtelen kereskedelmi gyakorlat</a:t>
            </a:r>
            <a:r>
              <a:rPr b="0" i="1" lang="en-US" sz="44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akmai gondosság követelményét nem tartja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gyasztói magatartást torzít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3BF4-E9A1-4EBF-A3CE-8342E3A28894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ahoma"/>
              </a:rPr>
              <a:t>DR SZALAI ERZSÉBET  2020. április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cc00"/>
                </a:solidFill>
                <a:latin typeface="Tahoma"/>
              </a:rPr>
              <a:t>Megtévesztő az a kereskedelmi gyakorla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am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valótlan információt tartalma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megtéveszt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PÉLDÁUL……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A398-3F71-4880-8A44-576ACBA9A892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cc00"/>
                </a:solidFill>
                <a:latin typeface="Tahoma"/>
              </a:rPr>
              <a:t>AGRESSZÍV KERESKEDELMI GYAKORLAT  </a:t>
            </a:r>
            <a:r>
              <a:rPr b="1" lang="hu-HU" sz="4000" spc="-1" strike="noStrike">
                <a:solidFill>
                  <a:srgbClr val="ff0000"/>
                </a:solidFill>
                <a:latin typeface="Tahoma"/>
              </a:rPr>
              <a:t>TILO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jelentős információt elhallgat, elrejt, azt homályos, érthetetlen, félreérthető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időszerűtlen módon bocsátja rendelkezésr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nem nevezi meg az adott kereskedelmi gyakorlat kereskedelmi célját, amennyiben az a körülményekből nem derül ki, 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ezáltal a </a:t>
            </a:r>
            <a:r>
              <a:rPr b="0" lang="hu-HU" sz="2000" spc="-1" strike="noStrike">
                <a:solidFill>
                  <a:srgbClr val="ff0000"/>
                </a:solidFill>
                <a:latin typeface="Tahoma"/>
              </a:rPr>
              <a:t>fogyasztót olyan ügyleti döntés meghozatalára készteti, amelyet egyébként nem hozott volna meg, vagy erre alkalmas</a:t>
            </a:r>
            <a:r>
              <a:rPr b="0" lang="hu-H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áru lényeges jellemzői, így különösen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vitelezése, összetétele, műszaki jellemzői, tartozéka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nyiség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zármazási helye, eredete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őállításának vagy szolgáltatásának módja és időpontja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73D6-5B1F-418C-B819-3B95D9312F0A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7280" y="116640"/>
            <a:ext cx="7423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42560" y="836280"/>
            <a:ext cx="75675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beszerezhetősége, szállítása,</a:t>
            </a:r>
            <a:r>
              <a:rPr b="0" i="1" lang="hu-H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lkalmazása, a használatához, fenntartásához szükséges ismeretek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dott célra való alkalmasság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 használatától várható eredmények, előnye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veszélyessége, kockázata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környezeti hatása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egészségre gyakorolt hatása s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CDD2-AF8A-4F9A-A24D-AC1608978A34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amely </a:t>
            </a:r>
            <a:r>
              <a:rPr b="0" lang="hu-HU" sz="2400" spc="-1" strike="noStrike">
                <a:solidFill>
                  <a:srgbClr val="ff0000"/>
                </a:solidFill>
                <a:latin typeface="Tahoma"/>
              </a:rPr>
              <a:t>pszichés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vagy</a:t>
            </a:r>
            <a:r>
              <a:rPr b="0" lang="hu-HU" sz="2400" spc="-1" strike="noStrike">
                <a:solidFill>
                  <a:srgbClr val="ff0000"/>
                </a:solidFill>
                <a:latin typeface="Tahoma"/>
              </a:rPr>
              <a:t> fizikai nyomásgyakorlással 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– pl:fogyasztó zavarása révén - az adott helyzetben jelentősen korlátozza vagy alkalmas arra, hogy jelentősen </a:t>
            </a:r>
            <a:r>
              <a:rPr b="1" lang="hu-HU" sz="2400" spc="-1" strike="noStrike">
                <a:solidFill>
                  <a:srgbClr val="ffffff"/>
                </a:solidFill>
                <a:latin typeface="Tahoma"/>
              </a:rPr>
              <a:t>korlátozza a fogyasztónak az áruval kapcsolatos választási vagy magatartási szabadságát,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 illetve lehetőségét a tájékozott döntés meghozatalára és ezáltal a </a:t>
            </a:r>
            <a:r>
              <a:rPr b="1" lang="hu-HU" sz="2400" spc="-1" strike="noStrike">
                <a:solidFill>
                  <a:srgbClr val="ff0000"/>
                </a:solidFill>
                <a:latin typeface="Tahoma"/>
              </a:rPr>
              <a:t>fogyasztót olyan ügyleti döntés meghozatalára készteti, amelyet egyébként nem hozott volna meg, vagy erre alkalm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34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Felelősség a tisztességtelen kereskedelmi gyakorlat tilalmának megsértése miatt</a:t>
            </a:r>
            <a:br>
              <a:rPr sz="40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4508280"/>
            <a:ext cx="754380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A tisztességtelen kereskedelmi gyakorlat tilalmának megsértése miatt eljár ( max. </a:t>
            </a:r>
            <a:r>
              <a:rPr b="0" lang="hu-HU" sz="2800" spc="-1" strike="noStrike">
                <a:solidFill>
                  <a:srgbClr val="ffcc00"/>
                </a:solidFill>
                <a:latin typeface="Tahoma"/>
              </a:rPr>
              <a:t>3 éven belül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- a fogyasztóvédelmi hatósá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MNB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GV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Polgári igény bíróság előtt is érvényesíthet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Tahoma"/>
              </a:rPr>
              <a:t>xxxxxxxxxxxxxxxxxxxxxxxxxxxxxx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61340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FOGYASZTÓ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önálló foglalkozásán és gazdasági tevékenységén kívül eső célok érdekében eljáró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mészetes szemé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ivil szervezet, egyházi jogi személy, társasház, lakásszövetkezet, mikro, kis- és középvállalkozá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ki/amely árut vesz, rendel, kap, használ, igénybe vesz vagy az áruval kapcsolatos kereskedelmi kommunikáció, ajánlat címzettj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8" descr="Nő bevásárlótáskákkal"/>
          <p:cNvPicPr/>
          <p:nvPr/>
        </p:nvPicPr>
        <p:blipFill>
          <a:blip r:embed="rId1"/>
          <a:stretch/>
        </p:blipFill>
        <p:spPr>
          <a:xfrm>
            <a:off x="6732720" y="333360"/>
            <a:ext cx="12240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ahoma"/>
              </a:rPr>
              <a:t>Nemzeti Élelmiszer-biztonsági Hivat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20150310nebih-ellenorzes"/>
          <p:cNvPicPr/>
          <p:nvPr/>
        </p:nvPicPr>
        <p:blipFill>
          <a:blip r:embed="rId1"/>
          <a:stretch/>
        </p:blipFill>
        <p:spPr>
          <a:xfrm>
            <a:off x="2556000" y="2205000"/>
            <a:ext cx="45590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5" descr="20150310nebih-ellenorzes11"/>
          <p:cNvPicPr/>
          <p:nvPr/>
        </p:nvPicPr>
        <p:blipFill>
          <a:blip r:embed="rId1"/>
          <a:stretch/>
        </p:blipFill>
        <p:spPr>
          <a:xfrm>
            <a:off x="2340000" y="1773360"/>
            <a:ext cx="614376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748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692280"/>
            <a:ext cx="7543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zolgáltatási szerződé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online adásvételi vagy online szolgáltatási szerződé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……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Verdana"/>
              </a:rPr>
              <a:t>DR SZALAI ERZSÉBET 2020. április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Á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gyasztót írásban tájékoztatni kell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gvételre kínált termék eladási áráró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ségáráról, illet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zolgáltatás díjáró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6" descr="th?id=H"/>
          <p:cNvPicPr/>
          <p:nvPr/>
        </p:nvPicPr>
        <p:blipFill>
          <a:blip r:embed="rId1"/>
          <a:stretch/>
        </p:blipFill>
        <p:spPr>
          <a:xfrm>
            <a:off x="6588000" y="189000"/>
            <a:ext cx="1368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VÉTEL: árverés útján értékesítendő termékre, ha annak kikiáltási (induló) árát az árverési tájékoztató meghatározz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8640"/>
            <a:ext cx="7494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42560" y="692280"/>
            <a:ext cx="756756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ÁR (DÍJ)  FELTÜNTETÉ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gyértelműen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önnyen azonosíthatóa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sztán olvasható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atáron átnyúló szolgáltatásnyújtás kivételév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 szolgáltatás díjá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BA42-2FFF-4E83-8D3E-D3D0477E515A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77080" y="4653000"/>
            <a:ext cx="1727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ÁR BELTARTALM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628280"/>
            <a:ext cx="75438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ermék eladási áraként és egységáraként, illetve a szolgáltatás díjaké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ogyasztó által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énylegesen fizetendő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z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áfa-t és egyéb kötelező terheket is tartalmazó árat kell feltüntetn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Dia számának helye 4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CEC1-FD63-4F6B-929B-08B352E7FEBF}" type="slidenum">
              <a:rPr b="0" lang="hu-H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643280" y="2852640"/>
            <a:ext cx="671760" cy="540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6:19:20Z</dcterms:created>
  <dc:creator>PSZFB</dc:creator>
  <dc:description/>
  <dc:language>en-US</dc:language>
  <cp:lastModifiedBy>dr. Szalai Erzsébet</cp:lastModifiedBy>
  <dcterms:modified xsi:type="dcterms:W3CDTF">2020-07-12T14:58:43Z</dcterms:modified>
  <cp:revision>192</cp:revision>
  <dc:subject/>
  <dc:title>4. Témakör </dc:title>
</cp:coreProperties>
</file>